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jpeg" ContentType="image/jpeg"/>
  <Override PartName="/ppt/media/image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9F00-5DAF-4373-BCD0-047DDC040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BBB9-20F0-4E82-BCC5-F6E0AF275B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nglish Teacher to Learning Coach: Learner Autonomy and Empower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y do we need millions of educators to rewrite or create material, curriculum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y do we need this In the age of you tube and MIT open coursew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great stuff is already out t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re’s Digital oxford universit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e need that efficiency in the education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AA85-76E0-4BAE-8F4C-82E0A902AA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echnical: how to construct sentences; grammar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actical; how to write a paragraph for an em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ultural: who is the audience; cultural implications and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ritical: what the message is; clarity of thought; cohesiveness;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eacher as a personal learning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hallenging the belief system of teachers and creating a culture of reflective work will, in MuHammads’s (2009) view, help schools develop as a place where all students have the ability to succeed.  This cultural change will surely allow for a learning environment described by the notion of a personal learning manager.  Of course,  we then have to take a long look at what or where a “school” is and position that place or that space for this new teaching 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76F2-BFF8-42FE-8573-B444E586DD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s need to develop the skills needed for the 21</a:t>
            </a:r>
            <a:r>
              <a:rPr b="0" lang="en-CA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centur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Give the exampl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 live in cana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’m living in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xplain the context and the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F18D-F1D7-434F-BF6E-732C3E3A3A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ack Uldrich-global futurist and Chief unlearning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t that people cannot understand the future but unwillingness to let go of present-e.g. “LINC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One of the most critical skills of the future is not “lifelong learning” but unlear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o attain knowledge, add things everyday  by chinese philosopher“lao tsu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o attain wisdom, subtract things every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efinition of unlearning; To see the world not as you see it but as others d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.g. E and backward “E” how “E” is seen by others i.e. back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t so much what we know but what we don’t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s humans, we’re pattern seeking animals even when patterns don’t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ack says that If you want to unlearn, create a list of anti library ie. Books that you never read but should 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8B63-D9B4-4C66-BA7F-594E087050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efinition of unlearning; To see the world not as you see it but as others d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.g. E and backward “E” how “E” is seen by others i.e. back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t what YOU should teach but what your LEARNERS want to learn-go back to needs assessment example: assessment from whose perspect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t so much what we know but what we don’t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s humans, we’re pattern seeking animals even when patterns don’t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6C9A-0845-4892-AF9D-5FFD4527B4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s is what you have learned-i.e. What you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s is the content we create and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A14B-6AAC-4684-B94C-AB018728E2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eaching is still relevant; the question i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at does teaching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60CD-7DFC-45B8-A22E-C7BDF94A29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s is what we don’t know; that’s what unlearning is ab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ontent we 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xample of counting white basketball and 500 pound guerilla in the room that no one saw as everyone is coun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Basketball players: icebe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guerilla: underneat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lso, example of the penny increasing exponentially; value of compound knowledge, mon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ikepedia using collaboration of 1,000,000 people taking 100,000,000 hrs to bui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28C0-1921-4E8E-B8BA-F33C84E756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FEEE-4D0D-4D35-807C-A4A33C3A60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oject-ba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hort stories, autobiographies, class projects, creating web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SL w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s research about funding esl &amp; linc in ontario; immigration patterns, declining enrolment (hence budget cu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ong dist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ail correspo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er to correct email messages if anx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er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t ro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-cultural and discourse prac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Or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fter struggling to replace the once adrenaline filled void in his life, Miguel, the matador, turned to teaching at his local language sch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6080-44EC-481D-8AE7-5D476787DB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Or this? Or other way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F041-D664-4588-892E-89E488E031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738E-C585-4194-BFC8-766D8991FD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3715-A877-4848-AA49-D825BEFAFA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7EEC-1D54-438D-B9A3-4A6225D4D5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You are the people </a:t>
            </a:r>
            <a:r>
              <a:rPr b="1" lang="en-CA" sz="1200" spc="-1" strike="noStrike">
                <a:solidFill>
                  <a:srgbClr val="ff0000"/>
                </a:solidFill>
                <a:latin typeface="Times New Roman"/>
              </a:rPr>
              <a:t>formerly known as the aud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You –audience-know more than i do-massive amount of info w the aud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You should be up here in f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at does this remind us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lass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 system built for industrial age where we stamp all students with the righ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ll the knowledge flows from lec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f you don’t feed it back, you are wro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One size fits 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veryone must ask the same question, be provided with same answ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teacher becomes the speaker of the decid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ust like the news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e should question the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nable students to question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5613-0A16-4813-97F3-070C24E89A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asks shift from creating and controlling content and managing scarcity to </a:t>
            </a: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curating people and content 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nd creating an abundance of students and teac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A world where everyone learns and everyone tea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nk of education as process </a:t>
            </a: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not as a product w an expiry date 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ith the end product being a certificate or dipl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at should schools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at matters is your ability and your desire and thou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chools become the means to help ss create what they want to cre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3595-1AB5-41CB-BF27-5537ACA604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7801-06F3-4958-953A-21FD85F1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B85-E945-4215-80ED-CA8DBAB2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D8B-A345-4D38-8372-D5B7E48A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C01-21A4-45E0-AFBE-8D0228C0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F2EB-4152-4FBF-B32B-B77E55C3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264B-7214-492B-B862-2A195299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AAF5-7ECE-4DA4-A1EE-93AF604A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A0B1-D87A-41C2-8224-E589EE65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7409-EE75-45FC-95C0-1A0C0548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338D-E896-4CD5-A84B-D632F7D1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685F-3F5F-4C45-BEE8-A07CF7D9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AC5B-A7B8-4C03-96B5-69252508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7940-A581-40A6-BE93-B12D9C04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4611-7625-4835-BD35-94AB6DB3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59FE-1BC6-43E9-BE19-D9617D30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18F0-0A83-4A09-8CB3-FA8A9335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2533-7009-4A86-A726-20DF9D09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79B-2238-4B21-AE96-2924A539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6337-9EB5-4E36-ACF8-9FD16FC7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584-DEAB-4E3C-B838-19812BAD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3FB-5D46-4EC0-B1A2-E33E1758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E7A0-7FBC-4AF3-BDF2-F1970142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7D1E-0C5C-4906-9431-731B2BFC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0FAD-0629-4975-AD73-DBE82A22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EBE6-4BCB-419A-884B-3B6FC7B1C2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FED1-2E5E-4F62-A640-6BCE822D19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b2b2b2"/>
                </a:solidFill>
                <a:latin typeface="Arial"/>
              </a:rPr>
              <a:t>The ever changing role of teachers: </a:t>
            </a:r>
            <a:r>
              <a:rPr b="0" lang="en-CA" sz="4800" spc="-1" strike="noStrike">
                <a:solidFill>
                  <a:srgbClr val="ffff00"/>
                </a:solidFill>
                <a:latin typeface="Arial"/>
              </a:rPr>
              <a:t>Is teaching still relevant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74320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cess Employment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on Raja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haron.rajabi@tcdsb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4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ff"/>
                </a:solidFill>
                <a:latin typeface="Arial"/>
              </a:rPr>
              <a:t>Educators should become more the curators than creators..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b2b2b2"/>
                </a:solidFill>
                <a:latin typeface="Arial"/>
              </a:rPr>
              <a:t>Rules of Engagement</a:t>
            </a:r>
            <a:br>
              <a:rPr sz="4400"/>
            </a:br>
            <a:r>
              <a:rPr b="0" lang="en-CA" sz="4400" spc="-1" strike="noStrike">
                <a:solidFill>
                  <a:srgbClr val="b2b2b2"/>
                </a:solidFill>
                <a:latin typeface="Arial"/>
              </a:rPr>
              <a:t>O’Rurke :200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8592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chn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ul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r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ffffff"/>
                </a:solidFill>
                <a:latin typeface="Arial"/>
              </a:rPr>
              <a:t>Higher-order goals demand what some analysts have called “meaningful learning” (Good &amp; Brophy, 1986) that is, learning that enables critical thinking, flexible problem solving, and transfer of skills and use of knowledge in new situations. (p. 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EO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O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AO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2147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600" spc="-1" strike="noStrike">
                <a:solidFill>
                  <a:srgbClr val="ffffff"/>
                </a:solidFill>
                <a:latin typeface="Arial"/>
              </a:rPr>
              <a:t>CUO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947880" y="1600200"/>
            <a:ext cx="724824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4" descr=""/>
          <p:cNvPicPr/>
          <p:nvPr/>
        </p:nvPicPr>
        <p:blipFill>
          <a:blip r:embed="rId2"/>
          <a:stretch/>
        </p:blipFill>
        <p:spPr>
          <a:xfrm>
            <a:off x="3670200" y="2755800"/>
            <a:ext cx="17924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o see the world not as you see it but as others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Rectangle 4" descr=""/>
          <p:cNvPicPr/>
          <p:nvPr/>
        </p:nvPicPr>
        <p:blipFill>
          <a:blip r:embed="rId1"/>
          <a:stretch/>
        </p:blipFill>
        <p:spPr>
          <a:xfrm>
            <a:off x="2743200" y="-1530360"/>
            <a:ext cx="6072120" cy="8364600"/>
          </a:xfrm>
          <a:prstGeom prst="rect">
            <a:avLst/>
          </a:prstGeom>
          <a:ln w="0">
            <a:noFill/>
          </a:ln>
        </p:spPr>
      </p:pic>
      <p:pic>
        <p:nvPicPr>
          <p:cNvPr id="144" name="Rectangle 5" descr=""/>
          <p:cNvPicPr/>
          <p:nvPr/>
        </p:nvPicPr>
        <p:blipFill>
          <a:blip r:embed="rId2"/>
          <a:stretch/>
        </p:blipFill>
        <p:spPr>
          <a:xfrm>
            <a:off x="0" y="907920"/>
            <a:ext cx="6072120" cy="83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ot so much what we know but what we don’t k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s humans, we’re pattern seeking animals even when patterns don’t ex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iceberg 1.JPG"/>
          <p:cNvPicPr/>
          <p:nvPr/>
        </p:nvPicPr>
        <p:blipFill>
          <a:blip r:embed="rId1"/>
          <a:stretch/>
        </p:blipFill>
        <p:spPr>
          <a:xfrm>
            <a:off x="4214880" y="1428840"/>
            <a:ext cx="39434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Content Placeholder 3" descr="9801620-illustrated-teacher-holding-a-stick-with-a-scroll-in-front.jpg"/>
          <p:cNvPicPr/>
          <p:nvPr/>
        </p:nvPicPr>
        <p:blipFill>
          <a:blip r:embed="rId1"/>
          <a:stretch/>
        </p:blipFill>
        <p:spPr>
          <a:xfrm>
            <a:off x="4786200" y="2214720"/>
            <a:ext cx="3011760" cy="2857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Documents and Settings\rajabis\Local Settings\Temporary Internet Files\Content.IE5\NRY2X67M\MM900046566[1].gif"/>
          <p:cNvPicPr/>
          <p:nvPr/>
        </p:nvPicPr>
        <p:blipFill>
          <a:blip r:embed="rId2"/>
          <a:stretch/>
        </p:blipFill>
        <p:spPr>
          <a:xfrm>
            <a:off x="1000080" y="2286000"/>
            <a:ext cx="30006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11187270-iceberg-ship.jpg"/>
          <p:cNvPicPr/>
          <p:nvPr/>
        </p:nvPicPr>
        <p:blipFill>
          <a:blip r:embed="rId1"/>
          <a:stretch/>
        </p:blipFill>
        <p:spPr>
          <a:xfrm>
            <a:off x="4071960" y="1285920"/>
            <a:ext cx="40003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b2b2b2"/>
                </a:solidFill>
                <a:latin typeface="Arial"/>
              </a:rPr>
              <a:t>H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Project-based lear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jects include many individual tasks; the umbrella of the project allows opportunities to critique and transform practice in ways that individual tasks do no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Long-distance exchange proje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arners debate and discuss issues related to culture, identity, education, etc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 teacher is one who makes himself progressively unnecessa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~Thomas Carruthers</a:t>
            </a:r>
            <a:br>
              <a:rPr sz="3200"/>
            </a:b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 good teacher is like a candle - it consumes itself to light the way for others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~Mustafa Kemal Atatü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ranslated from Turkish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 mediocre teacher tells.  The good teacher explains.  The superior teacher demonstrates.  The great teacher inspires. 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~William Arthur War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teacher high res 2.jpg"/>
          <p:cNvPicPr/>
          <p:nvPr/>
        </p:nvPicPr>
        <p:blipFill>
          <a:blip r:embed="rId1"/>
          <a:stretch/>
        </p:blipFill>
        <p:spPr>
          <a:xfrm>
            <a:off x="571680" y="500040"/>
            <a:ext cx="4929120" cy="386244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teacher w smart board.jpg"/>
          <p:cNvPicPr/>
          <p:nvPr/>
        </p:nvPicPr>
        <p:blipFill>
          <a:blip r:embed="rId1"/>
          <a:stretch/>
        </p:blipFill>
        <p:spPr>
          <a:xfrm>
            <a:off x="0" y="0"/>
            <a:ext cx="932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-285840" y="0"/>
            <a:ext cx="980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b2b2b2"/>
                </a:solidFill>
                <a:latin typeface="Arial"/>
              </a:rPr>
              <a:t>Demands on teachers..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creased achievements for all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creased levels of accountability by fu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ew or renewed curricul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udgetary pres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creased levels of diversity in the class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Massive amount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Diagram 3" descr=""/>
          <p:cNvPicPr/>
          <p:nvPr/>
        </p:nvPicPr>
        <p:blipFill>
          <a:blip r:embed="rId1"/>
          <a:stretch/>
        </p:blipFill>
        <p:spPr>
          <a:xfrm>
            <a:off x="7997760" y="5778360"/>
            <a:ext cx="6526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947880" y="1600200"/>
            <a:ext cx="7248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Arial"/>
              </a:rPr>
              <a:t>Are we preparing our learners for the google age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23:34:28Z</dcterms:created>
  <dc:creator>Sharon Rajabi</dc:creator>
  <dc:description/>
  <dc:language>en-US</dc:language>
  <cp:lastModifiedBy>Consultant</cp:lastModifiedBy>
  <dcterms:modified xsi:type="dcterms:W3CDTF">2013-02-21T17:53:35Z</dcterms:modified>
  <cp:revision>263</cp:revision>
  <dc:subject/>
  <dc:title>Rethinking literacy in electronic age: Am I teaching what learners need?</dc:title>
</cp:coreProperties>
</file>